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867-1A91-4FE2-B2E4-F4EE6085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EDA-F3B2-44DD-AD5B-F0F34445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3B1D-C64C-4237-A7F2-CBD18702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1F6-EF91-4ECA-99AC-622A8B91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7EB-E7B8-4895-B7A8-809F1B2F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CC0-B988-4067-8BCC-FBBCAC3B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64C-631D-4D29-B16D-BDBA3C2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1DF-EF5B-4885-B039-76BEF957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B02-3BD8-483D-AECD-D7EEE6B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F60-74D3-42C4-B065-E0DC629D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024-6416-492B-8CC3-B31D433D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BB8-FAEF-42F3-A9F0-FCB17E8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93FA-D11D-4670-970A-521FC7D20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burger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a re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ara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133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80880" y="1981080"/>
            <a:ext cx="3429000" cy="838440"/>
          </a:xfrm>
          <a:custGeom>
            <a:avLst/>
            <a:gdLst>
              <a:gd name="textAreaLeft" fmla="*/ 54360 w 3429000"/>
              <a:gd name="textAreaRight" fmla="*/ 3374640 w 3429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88310" h="21600">
                <a:moveTo>
                  <a:pt x="0" y="0"/>
                </a:moveTo>
                <a:lnTo>
                  <a:pt x="88310" y="0"/>
                </a:lnTo>
                <a:lnTo>
                  <a:pt x="88310" y="21600"/>
                </a:lnTo>
                <a:lnTo>
                  <a:pt x="0" y="21600"/>
                </a:lnTo>
                <a:close/>
              </a:path>
              <a:path fill="lightenLess" w="88310" h="21600">
                <a:moveTo>
                  <a:pt x="0" y="0"/>
                </a:moveTo>
                <a:lnTo>
                  <a:pt x="88310" y="0"/>
                </a:lnTo>
                <a:lnTo>
                  <a:pt x="86910" y="1400"/>
                </a:lnTo>
                <a:lnTo>
                  <a:pt x="1400" y="1400"/>
                </a:lnTo>
                <a:close/>
              </a:path>
              <a:path fill="darken" w="88310" h="21600">
                <a:moveTo>
                  <a:pt x="88310" y="0"/>
                </a:moveTo>
                <a:lnTo>
                  <a:pt x="88310" y="21600"/>
                </a:lnTo>
                <a:lnTo>
                  <a:pt x="86910" y="20200"/>
                </a:lnTo>
                <a:lnTo>
                  <a:pt x="86910" y="1400"/>
                </a:lnTo>
                <a:close/>
              </a:path>
              <a:path fill="darkenLess" w="88310" h="21600">
                <a:moveTo>
                  <a:pt x="88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10" y="20200"/>
                </a:lnTo>
                <a:close/>
              </a:path>
              <a:path fill="lighten" w="88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954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962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343400"/>
            <a:ext cx="3276720" cy="838080"/>
          </a:xfrm>
          <a:custGeom>
            <a:avLst/>
            <a:gdLst>
              <a:gd name="textAreaLeft" fmla="*/ 54000 w 3276720"/>
              <a:gd name="textAreaRight" fmla="*/ 3222720 w 3276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4425" h="21600">
                <a:moveTo>
                  <a:pt x="0" y="0"/>
                </a:moveTo>
                <a:lnTo>
                  <a:pt x="84425" y="0"/>
                </a:lnTo>
                <a:lnTo>
                  <a:pt x="84425" y="21600"/>
                </a:lnTo>
                <a:lnTo>
                  <a:pt x="0" y="21600"/>
                </a:lnTo>
                <a:close/>
              </a:path>
              <a:path fill="lightenLess" w="84425" h="21600">
                <a:moveTo>
                  <a:pt x="0" y="0"/>
                </a:moveTo>
                <a:lnTo>
                  <a:pt x="84425" y="0"/>
                </a:lnTo>
                <a:lnTo>
                  <a:pt x="83025" y="1400"/>
                </a:lnTo>
                <a:lnTo>
                  <a:pt x="1400" y="1400"/>
                </a:lnTo>
                <a:close/>
              </a:path>
              <a:path fill="darken" w="84425" h="21600">
                <a:moveTo>
                  <a:pt x="84425" y="0"/>
                </a:moveTo>
                <a:lnTo>
                  <a:pt x="84425" y="21600"/>
                </a:lnTo>
                <a:lnTo>
                  <a:pt x="83025" y="20200"/>
                </a:lnTo>
                <a:lnTo>
                  <a:pt x="83025" y="1400"/>
                </a:lnTo>
                <a:close/>
              </a:path>
              <a:path fill="darkenLess" w="84425" h="21600">
                <a:moveTo>
                  <a:pt x="8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25" y="20200"/>
                </a:lnTo>
                <a:close/>
              </a:path>
              <a:path fill="lighten" w="8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59151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on me to learn about good paragrap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pic Sentenc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Top B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first sentence of your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eds to be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lls what your paragraph is going to b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0020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676520"/>
            <a:ext cx="3886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all is the best season of the yea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First of all, I love fall because the leaves change colour.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0"/>
            <a:ext cx="73152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st Detail (Lettu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topic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delicious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rst of all, I love fall because the leaves change colour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cond Detail (Toma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ill 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lettuc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juic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nother reason is the temperature is just right for playing outdoors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2085" t="21428" r="8293" b="0"/>
          <a:stretch/>
        </p:blipFill>
        <p:spPr>
          <a:xfrm>
            <a:off x="0" y="-3816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Last Detail (Me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!! 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start differently than the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meat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00200"/>
            <a:ext cx="4038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nally, we celebrate Hallowe’en in the fa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losing Sent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Bottom B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uld look a lot like the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summarize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be an obvious end to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52388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175248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 Finally, we celebrate Hallowe’en in the fall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see a good paragraph on the w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48:17Z</dcterms:created>
  <dc:creator>p1017404</dc:creator>
  <dc:description/>
  <dc:language>en-US</dc:language>
  <cp:lastModifiedBy>Teacher</cp:lastModifiedBy>
  <dcterms:modified xsi:type="dcterms:W3CDTF">2008-10-23T14:44:58Z</dcterms:modified>
  <cp:revision>10</cp:revision>
  <dc:subject/>
  <dc:title>Hamburger Paragraphs</dc:title>
</cp:coreProperties>
</file>